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9D6-5E84-4532-BB63-5F1A25DC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C03-F61B-45CC-B498-88AF1ED3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CD6-852D-478E-9647-1CA212DF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780-E757-4125-AFDF-D4560C98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9C0-AF9B-4E60-8FC8-B294DF8E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DC63-5B2A-4DB0-B1D5-69A6477C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97D-A134-4602-969E-8F6CEB4F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E3B-BFBB-4DA0-91CA-4C28F9FC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030-E2CE-4961-A8B0-B203357F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8FB-D1FB-41E9-9C0E-41EF6B28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ACD-1FF2-45F4-9521-056B74B0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66D-EAC2-4D24-95A2-9DCDA8B6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C1DE-8F2E-46DC-8397-41DBD3D7B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7080" y="228600"/>
            <a:ext cx="66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RCOT Support For the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5462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COT supports the synchronization project as described, and asks that ROS vote in support of the inclusion of $100,000 in either the 2006 or the 2007 ERCOT budget with 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4:40:33Z</dcterms:created>
  <dc:creator>James J. Teixeira</dc:creator>
  <dc:description/>
  <dc:language>en-US</dc:language>
  <cp:lastModifiedBy>mk</cp:lastModifiedBy>
  <dcterms:modified xsi:type="dcterms:W3CDTF">2006-08-11T13:01:34Z</dcterms:modified>
  <cp:revision>40</cp:revision>
  <dc:subject/>
  <dc:title>ERCOT Independent Review AEPTCC Western Region Project June 7, 2006 </dc:title>
</cp:coreProperties>
</file>